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EDB1-CE06-430F-8548-A91CAD69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CC22-7206-4378-ABAD-2BE8BCA6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0BC-718A-4E3C-9676-A6510284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B5F-F40A-44ED-9F52-07D094C4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619-125F-4F7C-9D97-58BCCBF6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991-6839-4524-9B1E-F26A8708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F477-9ABF-4E8E-8064-DD24A5FE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A7CE-F9EB-41C1-85A6-AB44F3A3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A1C-40D0-45FF-AA22-A93A288C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645-E82F-40AB-8FA9-B2DC4EB4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FD8-FD6E-4DDA-92F0-0852B73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9B3-A826-41FE-B04F-80A4ED7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AA3B-D79B-4241-A281-2258B152101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ienciaspaseando.wikispaces.com/NUESTROS+TRABAJO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051840" cy="400500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1116000" y="5157720"/>
            <a:ext cx="655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“Ciencias paseand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º ESO Instituto Artaza Romo (Bizka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8:47Z</dcterms:created>
  <dc:creator>Mari</dc:creator>
  <dc:description/>
  <dc:language>en-US</dc:language>
  <cp:lastModifiedBy>Mari</cp:lastModifiedBy>
  <dcterms:modified xsi:type="dcterms:W3CDTF">2015-04-21T19:25:54Z</dcterms:modified>
  <cp:revision>1</cp:revision>
  <dc:subject/>
  <dc:title>Diapositiva 1</dc:title>
</cp:coreProperties>
</file>